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ct" ContentType="image/x-pict"/>
  <Override PartName="/ppt/media/image9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13.pct" ContentType="image/x-pict"/>
  <Override PartName="/ppt/media/image18.pct" ContentType="image/x-pict"/>
  <Override PartName="/ppt/media/image1.jpeg" ContentType="image/jpeg"/>
  <Override PartName="/ppt/media/image2.pct" ContentType="image/x-pict"/>
  <Override PartName="/ppt/media/image3.pct" ContentType="image/x-pict"/>
  <Override PartName="/ppt/media/whoosh.wav" ContentType="audio/x-wav"/>
  <Override PartName="/ppt/media/image5.png" ContentType="image/png"/>
  <Override PartName="/ppt/media/image16.pct" ContentType="image/x-pict"/>
  <Override PartName="/ppt/media/image4.pct" ContentType="image/x-pict"/>
  <Override PartName="/ppt/media/image6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D80-64DC-4A5A-8C48-5F98666B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2E1-29B2-400A-957E-2D389F90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A5D6-2799-4B62-8CF5-72B9FCCE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F1E-D4B9-49C6-9B44-CE4D57D4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23E0-7A51-4A57-B332-FAECAE7D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A7A-7370-4049-BD97-2AB7C83F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FE8-8DB5-4D13-9D60-D6FF5980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71B-D42E-429C-BAAF-8C9AD45A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0F7-88D9-460F-8E7E-4D90528F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BF4-B59F-4CB3-8B35-60761475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45F-35DB-44FD-8525-EE982F8E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E4B-4B25-46C2-9A49-5876A652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BF6E-7851-4B4D-9849-D152292A0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ct"/><Relationship Id="rId3" Type="http://schemas.openxmlformats.org/officeDocument/2006/relationships/image" Target="../media/image15.pct"/><Relationship Id="rId4" Type="http://schemas.openxmlformats.org/officeDocument/2006/relationships/image" Target="../media/image16.pct"/><Relationship Id="rId5" Type="http://schemas.openxmlformats.org/officeDocument/2006/relationships/image" Target="../media/image17.pct"/><Relationship Id="rId6" Type="http://schemas.openxmlformats.org/officeDocument/2006/relationships/image" Target="../media/image18.pct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ct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image" Target="../media/image13.pct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38320" y="91440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Times New Roman"/>
              </a:rPr>
              <a:t>Diversity of Life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943240" y="4495680"/>
            <a:ext cx="2514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Taxono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04920"/>
            <a:ext cx="52070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on Name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fish”, “Crayfish”, “Jellyfish”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Robin” – is a fish, NOT A 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nish moss” – is NOT MOSS, it is a flowering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257800" y="2590920"/>
            <a:ext cx="1295280" cy="871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086600" y="1981080"/>
            <a:ext cx="914400" cy="906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7391520" y="3581280"/>
            <a:ext cx="1752480" cy="1419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3733920" y="5562720"/>
            <a:ext cx="32004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upings in a Classification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6477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logists group organisms as follows: (large groups down to individu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ngd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l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2666880"/>
            <a:ext cx="2667240" cy="36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tin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n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reet #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use #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2514600"/>
            <a:ext cx="2133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Relationships of different “Levels” of classification can be compared to geographic destin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nemonic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ip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 – “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odnes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g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ip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man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ur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l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nk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zz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p your own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member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r the group, the more alike are its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 of Classifying Hum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gdom – Anim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la – Chordata/Verteb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– Mammalia (mammary glan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 – Primates (stand, walk e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– Hominidae (early hu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us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rue humans, larger brai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es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apie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“wise”, sophisticated, large brain) = only surviving human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eties: ex. diffe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u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ree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x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of classifying living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istotle – devised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ification      system over 2,000 years a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43000" y="3962520"/>
          <a:ext cx="6477120" cy="2130480"/>
        </p:xfrm>
        <a:graphic>
          <a:graphicData uri="http://schemas.openxmlformats.org/drawingml/2006/table">
            <a:tbl>
              <a:tblPr/>
              <a:tblGrid>
                <a:gridCol w="3238560"/>
                <a:gridCol w="323856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nima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Pla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ir dwel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d dwel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ru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er dwell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238880" y="1828800"/>
            <a:ext cx="1459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rent System of Tax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by Carolus Linnaeus               (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entury Swedish biologi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ed organisms according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ructural similar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ose that looked most closely alike, were most closely 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ve organisms Latin names ---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705720" y="1371600"/>
            <a:ext cx="146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s for La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“dead language, no longer used so it won’t change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nderstood by scientists from all over the world (universal language of sc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Latin words are suitable for describing the traits of organis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5800" y="99072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65665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  <p:seq>
              <p:cTn id="7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omial Nomencl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ord nam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e consists of genus and spe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format inclu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 = Genus     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ame = spe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us name always begins with a capital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es name always begins with a small le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der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alic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oth na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nomial Nomenclature and La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er saccha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gar ma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r = maple       saccharum = sweet or s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er rub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ed ma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er = maple        rubrum =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1600200" cy="1815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2133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 of Scientific Names-(Binomial Nomenclatu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28600" y="2514600"/>
          <a:ext cx="4038480" cy="26668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elis tigr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tige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elis le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lio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Felis domestic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houseca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572000" y="2590920"/>
          <a:ext cx="4267080" cy="249696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nis lupu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wol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nis latran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coyot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nis domestic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domestic do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52280" y="5334120"/>
            <a:ext cx="1447920" cy="1257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00200" y="53341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3124080" y="5334120"/>
            <a:ext cx="1447920" cy="12189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572000" y="53341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95880" y="5334120"/>
            <a:ext cx="1638360" cy="1130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696080" y="5257800"/>
            <a:ext cx="12034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Common Names are U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l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lls us nothing about the relationships between org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different from place to place for the same orga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6T00:37:19Z</dcterms:created>
  <dc:creator> </dc:creator>
  <dc:description/>
  <dc:language>en-US</dc:language>
  <cp:lastModifiedBy>Clayton Johns</cp:lastModifiedBy>
  <dcterms:modified xsi:type="dcterms:W3CDTF">2008-09-19T12:43:50Z</dcterms:modified>
  <cp:revision>7</cp:revision>
  <dc:subject/>
  <dc:title>Diversity of Life</dc:title>
</cp:coreProperties>
</file>